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6.png" ContentType="image/png"/>
  <Override PartName="/ppt/media/image19.wmf" ContentType="image/x-wmf"/>
  <Override PartName="/ppt/media/image2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15.wmf" ContentType="image/x-wmf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8.png" ContentType="image/png"/>
  <Override PartName="/ppt/media/image16.wmf" ContentType="image/x-wmf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F0C-7A4A-4F4B-B99F-BED03B43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E00-AB48-4228-AD10-16CCA65D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81F-0219-4A91-811E-7902EDC8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363-338B-4977-9067-C11B4CAA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BC1-22AE-4067-B036-CB81631D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711-3B01-4F30-B117-55851CC7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83A-EEF8-4E69-B5C5-8EE48F07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804-B5F0-48BA-B3F2-B80163AD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8E2-6A0C-4426-B822-50E697DE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871-F27B-4879-BC07-179EA8D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24A-5111-4C95-9E90-08ABC95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BB2-8FEE-4BFE-AC42-E56FB2C4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FA20-B859-4F96-948E-514F77AD1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file:///tmp/home/.config/libreoffice/4/user/gallery/j0327538.wav" TargetMode="External"/><Relationship Id="rId4" Type="http://schemas.microsoft.com/office/2007/relationships/media" Target="file:///tmp/home/.config/libreoffice/4/user/gallery/j0327538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gif"/><Relationship Id="rId3" Type="http://schemas.openxmlformats.org/officeDocument/2006/relationships/audio" Target="file:///tmp/home/.config/libreoffice/4/user/gallery/SN00246A.wav" TargetMode="External"/><Relationship Id="rId4" Type="http://schemas.microsoft.com/office/2007/relationships/media" Target="file:///tmp/home/.config/libreoffice/4/user/gallery/SN00246A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SN00525A.wav" TargetMode="External"/><Relationship Id="rId3" Type="http://schemas.microsoft.com/office/2007/relationships/media" Target="file:///tmp/home/.config/libreoffice/4/user/gallery/SN00525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file:///tmp/home/.config/libreoffice/4/user/gallery/duckps04.WAV" TargetMode="External"/><Relationship Id="rId3" Type="http://schemas.microsoft.com/office/2007/relationships/media" Target="file:///tmp/home/.config/libreoffice/4/user/gallery/duckps04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ff"/>
                </a:solidFill>
                <a:latin typeface="Catchup"/>
              </a:rPr>
              <a:t>Questions </a:t>
            </a:r>
            <a:br>
              <a:rPr sz="8600"/>
            </a:br>
            <a:r>
              <a:rPr b="1" lang="en-US" sz="8600" spc="-1" strike="noStrike">
                <a:solidFill>
                  <a:srgbClr val="0000ff"/>
                </a:solidFill>
                <a:latin typeface="Catchup"/>
              </a:rPr>
              <a:t>and </a:t>
            </a:r>
            <a:br>
              <a:rPr sz="8600"/>
            </a:br>
            <a:r>
              <a:rPr b="1" lang="en-US" sz="8600" spc="-1" strike="noStrike">
                <a:solidFill>
                  <a:srgbClr val="0000ff"/>
                </a:solidFill>
                <a:latin typeface="Catchup"/>
              </a:rPr>
              <a:t>Statements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362320" y="5791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144936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14493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791320" y="5791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162920" y="4800600"/>
            <a:ext cx="1449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285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296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303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1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312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315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316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318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1981080"/>
            <a:ext cx="579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tchup"/>
              </a:rPr>
              <a:t>When will the football game sta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2895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411480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0960" y="46483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48960" y="182880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59436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5105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533412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tchup"/>
              </a:rPr>
              <a:t>The game will start so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514680" cy="26384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500"/>
                            </p:stCondLst>
                            <p:childTnLst>
                              <p:par>
                                <p:cTn id="4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6305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345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356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363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1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372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375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376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378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6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What color is the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2895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411480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0960" y="46483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6840" y="198108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19320" y="59436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5105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5334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tchup"/>
              </a:rPr>
              <a:t>The bus is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803760" cy="28958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3" dur="862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457280" cy="2057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406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417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424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2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433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436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437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439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The boy is m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4680" y="41148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u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37080" y="464832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does not start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04240" y="1981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28080" y="51055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not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6248520" y="1828800"/>
            <a:ext cx="1496880" cy="16891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1996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465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476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483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91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492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495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496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498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04920" y="21337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The duck quacks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4680" y="41148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u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37080" y="464832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does not start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66360" y="19890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8080" y="51055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not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168640" cy="29718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2132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State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18288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statement is a telling sentence.                                It tells the reader someth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3809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57913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of a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36576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The ship sailed across the oce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8229600" cy="11210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1028520" cy="7776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79246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4" dur="727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Ques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17524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question asks the reader something.                       It begins with a question wor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57913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of a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556400" y="5105520"/>
            <a:ext cx="1148040" cy="1447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838080" y="36576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What color is the do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057400" cy="14983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35053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8" dur="3402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Ques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question can be answer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57913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7556400" y="5105520"/>
            <a:ext cx="1148040" cy="14475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838080" y="281952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What color is the do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4038480" y="426708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The dog is brow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105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3920" y="4724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 rot="391800">
            <a:off x="533520" y="2209320"/>
            <a:ext cx="16761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o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590920" y="2438280"/>
            <a:ext cx="2361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257800" y="2743200"/>
            <a:ext cx="164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Whe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486400" y="335268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he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3581280"/>
            <a:ext cx="131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971800" y="3886200"/>
            <a:ext cx="19810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Sh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34120" y="175248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514600" y="4419720"/>
            <a:ext cx="16002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0" y="44197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d?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410080" y="5181480"/>
            <a:ext cx="1514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es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438280" y="167652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o?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543800" y="2133720"/>
            <a:ext cx="961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n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696080" y="2895480"/>
            <a:ext cx="1143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848720" y="43434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s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880" y="3200400"/>
            <a:ext cx="12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y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391520" y="5105520"/>
            <a:ext cx="13716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hich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819520" y="5257800"/>
            <a:ext cx="131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Wa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62120" y="5029200"/>
            <a:ext cx="14097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09480" y="685800"/>
            <a:ext cx="797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Question Words</a:t>
            </a:r>
            <a:endParaRPr b="0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962520" y="5791320"/>
            <a:ext cx="12380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1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5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84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84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35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60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8500"/>
                            </p:stCondLst>
                            <p:childTnLst>
                              <p:par>
                                <p:cTn id="86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1000"/>
                            </p:stCondLst>
                            <p:childTnLst>
                              <p:par>
                                <p:cTn id="871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3500"/>
                            </p:stCondLst>
                            <p:childTnLst>
                              <p:par>
                                <p:cTn id="87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46000"/>
                            </p:stCondLst>
                            <p:childTnLst>
                              <p:par>
                                <p:cTn id="8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State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statement is a telling sentence.                                It tells the reader someth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9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7913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of a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The ship sailed across the oce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8229600" cy="112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1028520" cy="77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246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72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Ques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7524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question asks the reader something.                       It begins with a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question word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913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of a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0" y="5105520"/>
            <a:ext cx="1148040" cy="144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36576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What color is the do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057400" cy="1498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5053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40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tchup"/>
              </a:rPr>
              <a:t>Ques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question can be answer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7913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3800" y="5105520"/>
            <a:ext cx="1147680" cy="144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080" y="281952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tchup"/>
              </a:rPr>
              <a:t>What color is the do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19720" y="403848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The dog is brow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5105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3920" y="4724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 rot="391800">
            <a:off x="533520" y="2895120"/>
            <a:ext cx="16761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o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90920" y="3124080"/>
            <a:ext cx="2361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257800" y="3429000"/>
            <a:ext cx="164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Whe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86400" y="403848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he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14400" y="4267080"/>
            <a:ext cx="131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71800" y="4572000"/>
            <a:ext cx="19810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Sh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34120" y="243828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5105520"/>
            <a:ext cx="16002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0" y="5105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d?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10080" y="5867280"/>
            <a:ext cx="1514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es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38280" y="236232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o?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43800" y="2819520"/>
            <a:ext cx="961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n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96080" y="3581280"/>
            <a:ext cx="1143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48720" y="50292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s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3886200"/>
            <a:ext cx="12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y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91520" y="5791320"/>
            <a:ext cx="13716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hich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19520" y="5943600"/>
            <a:ext cx="131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Wa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5715000"/>
            <a:ext cx="14097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oul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685800"/>
            <a:ext cx="797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What are question words?</a:t>
            </a:r>
            <a:endParaRPr b="0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523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atchup"/>
              </a:rPr>
              <a:t>Here’s a f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62520" y="1905120"/>
            <a:ext cx="12380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500"/>
                            </p:stCondLst>
                            <p:childTnLst>
                              <p:par>
                                <p:cTn id="14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6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4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65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tchup"/>
              </a:rPr>
              <a:t>Let’s Practi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tchup"/>
              </a:rPr>
              <a:t>Question  or 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107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118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125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The children ar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340000" cy="304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680" y="41148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u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37080" y="464832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does not start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6360" y="19890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080" y="51055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not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91320" y="40384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530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166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177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184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193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196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197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199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The blue bird sings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4680" y="41148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tells u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7080" y="464832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does not start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66360" y="19890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tement starts with a capital letter and ends with a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080" y="51055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not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633400" cy="2594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7529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8427200">
            <a:off x="776988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609480"/>
            <a:ext cx="687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or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8427200">
            <a:off x="785736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8427200">
            <a:off x="782316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-87480" y="5153760"/>
            <a:ext cx="1983600" cy="1472760"/>
            <a:chOff x="-87480" y="5153760"/>
            <a:chExt cx="1983600" cy="1472760"/>
          </a:xfrm>
        </p:grpSpPr>
        <p:sp>
          <p:nvSpPr>
            <p:cNvPr id="225" name=""/>
            <p:cNvSpPr/>
            <p:nvPr/>
          </p:nvSpPr>
          <p:spPr>
            <a:xfrm rot="906600">
              <a:off x="52200" y="5361120"/>
              <a:ext cx="172872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906600">
              <a:off x="1685160" y="569556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906600">
              <a:off x="-7560" y="5716800"/>
              <a:ext cx="125748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906600">
              <a:off x="160200" y="5759640"/>
              <a:ext cx="83340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906600">
              <a:off x="882720" y="541008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906600">
              <a:off x="864000" y="642996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906600">
              <a:off x="825120" y="5537880"/>
              <a:ext cx="30636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906600">
              <a:off x="1122120" y="5620680"/>
              <a:ext cx="57780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906600">
              <a:off x="614880" y="560556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-87480" y="5306760"/>
              <a:ext cx="1983600" cy="1319760"/>
              <a:chOff x="-87480" y="5306760"/>
              <a:chExt cx="1983600" cy="13197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837720" y="5475600"/>
                <a:ext cx="922680" cy="1150920"/>
                <a:chOff x="837720" y="5475600"/>
                <a:chExt cx="922680" cy="1150920"/>
              </a:xfrm>
            </p:grpSpPr>
            <p:sp>
              <p:nvSpPr>
                <p:cNvPr id="236" name=""/>
                <p:cNvSpPr/>
                <p:nvPr/>
              </p:nvSpPr>
              <p:spPr>
                <a:xfrm rot="906600">
                  <a:off x="887760" y="5505480"/>
                  <a:ext cx="249480" cy="137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906600">
                  <a:off x="861840" y="63950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906600">
                  <a:off x="1668960" y="5651640"/>
                  <a:ext cx="6840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 rot="906600">
                <a:off x="133920" y="5639040"/>
                <a:ext cx="944640" cy="396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906600">
                <a:off x="383040" y="588132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906600">
                <a:off x="920520" y="5661360"/>
                <a:ext cx="169920" cy="377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-87480" y="5306760"/>
                <a:ext cx="1983600" cy="1203480"/>
                <a:chOff x="-87480" y="5306760"/>
                <a:chExt cx="1983600" cy="1203480"/>
              </a:xfrm>
            </p:grpSpPr>
            <p:sp>
              <p:nvSpPr>
                <p:cNvPr id="243" name=""/>
                <p:cNvSpPr/>
                <p:nvPr/>
              </p:nvSpPr>
              <p:spPr>
                <a:xfrm rot="906600">
                  <a:off x="959760" y="6265800"/>
                  <a:ext cx="119160" cy="137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906600">
                  <a:off x="-19440" y="564948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906600">
                  <a:off x="195480" y="5605560"/>
                  <a:ext cx="12708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906600">
                  <a:off x="741960" y="5356800"/>
                  <a:ext cx="51120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906600">
                  <a:off x="950400" y="561744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906600">
                  <a:off x="596880" y="550728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906600">
                  <a:off x="1117440" y="5558040"/>
                  <a:ext cx="747720" cy="3358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906600">
                  <a:off x="1211760" y="564336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1" name=""/>
          <p:cNvGrpSpPr/>
          <p:nvPr/>
        </p:nvGrpSpPr>
        <p:grpSpPr>
          <a:xfrm>
            <a:off x="8672400" y="2116080"/>
            <a:ext cx="385920" cy="4308480"/>
            <a:chOff x="8672400" y="2116080"/>
            <a:chExt cx="385920" cy="4308480"/>
          </a:xfrm>
        </p:grpSpPr>
        <p:sp>
          <p:nvSpPr>
            <p:cNvPr id="252" name=""/>
            <p:cNvSpPr/>
            <p:nvPr/>
          </p:nvSpPr>
          <p:spPr>
            <a:xfrm flipH="1">
              <a:off x="867240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73288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163640" y="-87480"/>
            <a:ext cx="2427480" cy="2247120"/>
            <a:chOff x="7163640" y="-87480"/>
            <a:chExt cx="2427480" cy="2247120"/>
          </a:xfrm>
        </p:grpSpPr>
        <p:grpSp>
          <p:nvGrpSpPr>
            <p:cNvPr id="255" name=""/>
            <p:cNvGrpSpPr/>
            <p:nvPr/>
          </p:nvGrpSpPr>
          <p:grpSpPr>
            <a:xfrm>
              <a:off x="7163640" y="-87480"/>
              <a:ext cx="2427480" cy="2247120"/>
              <a:chOff x="7163640" y="-87480"/>
              <a:chExt cx="2427480" cy="2247120"/>
            </a:xfrm>
          </p:grpSpPr>
          <p:sp>
            <p:nvSpPr>
              <p:cNvPr id="256" name=""/>
              <p:cNvSpPr/>
              <p:nvPr/>
            </p:nvSpPr>
            <p:spPr>
              <a:xfrm rot="18427200">
                <a:off x="861192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7163640" y="-87480"/>
                <a:ext cx="2427480" cy="2247120"/>
                <a:chOff x="7163640" y="-87480"/>
                <a:chExt cx="2427480" cy="2247120"/>
              </a:xfrm>
            </p:grpSpPr>
            <p:sp>
              <p:nvSpPr>
                <p:cNvPr id="258" name=""/>
                <p:cNvSpPr/>
                <p:nvPr/>
              </p:nvSpPr>
              <p:spPr>
                <a:xfrm rot="18427200">
                  <a:off x="787572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8427200">
                  <a:off x="800640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427200">
                  <a:off x="770508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8427200">
                  <a:off x="777528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840168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8427200">
                  <a:off x="833148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8427200">
                  <a:off x="790560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8427200">
                  <a:off x="784764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772308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28600" y="2133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tchup"/>
              </a:rPr>
              <a:t>Where is the k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2895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70280" y="3581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we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ask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0960" y="46483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starts with a question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86840" y="198108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tchu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9436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question starts with a capital letter and ends with a question ma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5105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can be ans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2571840" cy="2971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876920" y="5334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tchup"/>
              </a:rPr>
              <a:t>The kitten is in th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907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3:11Z</dcterms:created>
  <dc:creator>mcaro</dc:creator>
  <dc:description/>
  <dc:language>en-US</dc:language>
  <cp:lastModifiedBy>Karen</cp:lastModifiedBy>
  <dcterms:modified xsi:type="dcterms:W3CDTF">2007-12-04T03:35:27Z</dcterms:modified>
  <cp:revision>31</cp:revision>
  <dc:subject/>
  <dc:title>Question  or  Statement?</dc:title>
</cp:coreProperties>
</file>